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A2CE-5FBD-45F9-8A9F-07B7A160A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DDA-13B8-4558-86EA-24AB89507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C494-039D-47AD-817E-7EF3680148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880-8B50-46D5-AF95-852EC7F33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820-DFD4-4EC5-B6EB-6A354903D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7D2-E26A-4868-8D80-28E59422B3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355-F047-4CE1-9AA8-6A622196F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CDD-6B01-4DEF-8788-A7C112535E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32F-B85D-48F2-A57F-0005BCFA64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933F-66F7-489F-956E-5065AE61D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BCC-A9D9-46DE-9DF3-3B07331F0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7AC-590F-409C-B2B1-0B90EEC9C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D01-D617-4DCF-93D9-BA29A6F4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04C-25C6-4FEE-B4BE-E8464E3F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2AC-658F-4641-A68F-541D9B98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1F7-7CEB-4C81-B784-40382216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117-2119-43A3-AC44-1C71519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C5A-2A5A-4156-BDA8-111F792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DDC-2553-47AE-AB4A-AD440CC9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69B-C8C0-4A32-B3B9-63C6583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751-EFDB-4D5F-A78E-A90680A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25A-EED2-4EF3-AD3A-267770D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EBC-06B1-4974-AB00-28E407BA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72C-64CA-417F-B6FC-F225CF3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2C3-068E-4C7F-B0D3-9D6920B75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Александр\Pictures\rust01_20060417_w800x545.jpg"/>
          <p:cNvPicPr/>
          <p:nvPr/>
        </p:nvPicPr>
        <p:blipFill>
          <a:blip r:embed="rId1"/>
          <a:stretch/>
        </p:blipFill>
        <p:spPr>
          <a:xfrm>
            <a:off x="-500040" y="-1231920"/>
            <a:ext cx="10001160" cy="8232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09480" y="2597040"/>
            <a:ext cx="1035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avy0"/>
          <p:cNvPicPr/>
          <p:nvPr/>
        </p:nvPicPr>
        <p:blipFill>
          <a:blip r:embed="rId1"/>
          <a:stretch/>
        </p:blipFill>
        <p:spPr>
          <a:xfrm>
            <a:off x="4286160" y="428760"/>
            <a:ext cx="4500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857160"/>
          </a:xfrm>
          <a:prstGeom prst="rect">
            <a:avLst/>
          </a:prstGeom>
          <a:gradFill rotWithShape="0">
            <a:gsLst>
              <a:gs pos="0">
                <a:srgbClr val="ada1c0"/>
              </a:gs>
              <a:gs pos="100000">
                <a:srgbClr val="9177b2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5560" dir="5400000" blurRad="0" rotWithShape="0">
              <a:srgbClr val="4b3a61">
                <a:alpha val="8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особы защиты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3720"/>
            <a:ext cx="83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Documents and Settings\Александр\Рабочий стол\ch09_10_08.jpg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88936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4"/>
          <p:cNvPicPr/>
          <p:nvPr/>
        </p:nvPicPr>
        <p:blipFill>
          <a:blip r:embed="rId2"/>
          <a:stretch/>
        </p:blipFill>
        <p:spPr>
          <a:xfrm>
            <a:off x="4214880" y="1285920"/>
            <a:ext cx="402408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4654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нержавейка"/>
          <p:cNvPicPr/>
          <p:nvPr/>
        </p:nvPicPr>
        <p:blipFill>
          <a:blip r:embed="rId1"/>
          <a:stretch/>
        </p:blipFill>
        <p:spPr>
          <a:xfrm>
            <a:off x="5857920" y="3500280"/>
            <a:ext cx="2967120" cy="319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4719600" cy="225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"/>
          <p:cNvPicPr/>
          <p:nvPr/>
        </p:nvPicPr>
        <p:blipFill>
          <a:blip r:embed="rId3"/>
          <a:stretch/>
        </p:blipFill>
        <p:spPr>
          <a:xfrm>
            <a:off x="3924360" y="3643200"/>
            <a:ext cx="1719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lc_12"/>
          <p:cNvPicPr/>
          <p:nvPr/>
        </p:nvPicPr>
        <p:blipFill>
          <a:blip r:embed="rId4"/>
          <a:stretch/>
        </p:blipFill>
        <p:spPr>
          <a:xfrm>
            <a:off x="428760" y="1071720"/>
            <a:ext cx="2879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D:\Documents and Settings\Александр\Рабочий стол\ch09_10_09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21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Documents and Settings\Александр\Рабочий стол\7.JPG"/>
          <p:cNvPicPr/>
          <p:nvPr/>
        </p:nvPicPr>
        <p:blipFill>
          <a:blip r:embed="rId2"/>
          <a:stretch/>
        </p:blipFill>
        <p:spPr>
          <a:xfrm>
            <a:off x="428760" y="4214880"/>
            <a:ext cx="850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ие метод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тод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оконструкцию подсоединяют к кат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его источника тока, что исключ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её анодно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защищаемой металлической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оединяют кусок более акт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ротектор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у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одом и разрушается в при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л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D:\Documents and Settings\Александр\Рабочий стол\4.JPG"/>
          <p:cNvPicPr/>
          <p:nvPr/>
        </p:nvPicPr>
        <p:blipFill>
          <a:blip r:embed="rId1"/>
          <a:stretch/>
        </p:blipFill>
        <p:spPr>
          <a:xfrm>
            <a:off x="6072120" y="78588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:\Documents and Settings\Александр\Рабочий стол\5.JPG"/>
          <p:cNvPicPr/>
          <p:nvPr/>
        </p:nvPicPr>
        <p:blipFill>
          <a:blip r:embed="rId2"/>
          <a:stretch/>
        </p:blipFill>
        <p:spPr>
          <a:xfrm>
            <a:off x="500040" y="3357720"/>
            <a:ext cx="27147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7"/>
          <p:cNvPicPr/>
          <p:nvPr/>
        </p:nvPicPr>
        <p:blipFill>
          <a:blip r:embed="rId1"/>
          <a:stretch/>
        </p:blipFill>
        <p:spPr>
          <a:xfrm>
            <a:off x="214200" y="1357200"/>
            <a:ext cx="8215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29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лифование поверхностей изд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и шлифуют, чтобы на них не задерживалась вла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нение легированных спла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одержат специальные добавки: хром, никель, кото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ысокой температуре на поверхности металла образу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ый оксидный слой. Известны легированные стали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ржавейки», из которых изготавливают предметы 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ихода, детали машин, инстру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ециальная обработка электролита или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еще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гибиторов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дляющих корроз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D:\Documents and Settings\Александр\Рабочий стол\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929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оссворд «Корро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исок сл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Вид коррозии, связанный с возникновением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 сл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Металл, который содержит «нержавей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слов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способов защиты издел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щество, способное замедлять протекание химических процессов или останавли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ктивный металл, который присоединяют к конструкции для предохранен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4284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 - это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произвольного разрушения металлов и сплавов под влиянием внешней ср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osio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едан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Александр\Рабочий стол\4112.jpg"/>
          <p:cNvPicPr/>
          <p:nvPr/>
        </p:nvPicPr>
        <p:blipFill>
          <a:blip r:embed="rId1"/>
          <a:stretch/>
        </p:blipFill>
        <p:spPr>
          <a:xfrm>
            <a:off x="5786280" y="2286000"/>
            <a:ext cx="292896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Pictures\0_235f3_697a7da_XL.jpeg"/>
          <p:cNvPicPr/>
          <p:nvPr/>
        </p:nvPicPr>
        <p:blipFill>
          <a:blip r:embed="rId2"/>
          <a:stretch/>
        </p:blipFill>
        <p:spPr>
          <a:xfrm>
            <a:off x="357120" y="2286000"/>
            <a:ext cx="2562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андр\Pictures\0_21301_749b59ea_L.jpg"/>
          <p:cNvPicPr/>
          <p:nvPr/>
        </p:nvPicPr>
        <p:blipFill>
          <a:blip r:embed="rId3"/>
          <a:stretch/>
        </p:blipFill>
        <p:spPr>
          <a:xfrm>
            <a:off x="3000240" y="228600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Александр\Pictures\127830.jpg"/>
          <p:cNvPicPr/>
          <p:nvPr/>
        </p:nvPicPr>
        <p:blipFill>
          <a:blip r:embed="rId4"/>
          <a:stretch/>
        </p:blipFill>
        <p:spPr>
          <a:xfrm>
            <a:off x="214200" y="4286160"/>
            <a:ext cx="2786040" cy="204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андр\Pictures\watermark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\Pictures\1239748313_raz_33.jpg"/>
          <p:cNvPicPr/>
          <p:nvPr/>
        </p:nvPicPr>
        <p:blipFill>
          <a:blip r:embed="rId6"/>
          <a:stretch/>
        </p:blipFill>
        <p:spPr>
          <a:xfrm>
            <a:off x="6000840" y="4286160"/>
            <a:ext cx="277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2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4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5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8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9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0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1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2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4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5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6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28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9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0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1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2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3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4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5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6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7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38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39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0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41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2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3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4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45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8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5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1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2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3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54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55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56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57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6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3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4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5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6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8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0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71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2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73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7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75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76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8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79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81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82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83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84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85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8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9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9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94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95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96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8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99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00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1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02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3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4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5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6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07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8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0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1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11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12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13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14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15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6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17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18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19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20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21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2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23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31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ид коррозии , связанный с возникновением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32"/>
          <p:cNvSpPr/>
          <p:nvPr/>
        </p:nvSpPr>
        <p:spPr>
          <a:xfrm flipV="1" rot="10800000">
            <a:off x="6929280" y="357120"/>
            <a:ext cx="2214720" cy="29289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928960"/>
              <a:gd name="textAreaBottom" fmla="*/ 2820960 h 2928960"/>
            </a:gdLst>
            <a:ahLst/>
            <a:rect l="textAreaLeft" t="textAreaTop" r="textAreaRight" b="textAreaBottom"/>
            <a:pathLst>
              <a:path w="21600" h="28565">
                <a:moveTo>
                  <a:pt x="3600" y="0"/>
                </a:moveTo>
                <a:arcTo wR="3600" hR="3600" stAng="16200000" swAng="-5400000"/>
                <a:lnTo>
                  <a:pt x="0" y="24965"/>
                </a:lnTo>
                <a:arcTo wR="3600" hR="3600" stAng="10800000" swAng="-5400000"/>
                <a:lnTo>
                  <a:pt x="18000" y="285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Металл, который содержит «нержав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34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3"/>
          <p:cNvSpPr/>
          <p:nvPr/>
        </p:nvSpPr>
        <p:spPr>
          <a:xfrm>
            <a:off x="785880" y="371484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35"/>
          <p:cNvSpPr/>
          <p:nvPr/>
        </p:nvSpPr>
        <p:spPr>
          <a:xfrm>
            <a:off x="1143000" y="32860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6"/>
          <p:cNvSpPr/>
          <p:nvPr/>
        </p:nvSpPr>
        <p:spPr>
          <a:xfrm>
            <a:off x="2000160" y="714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7"/>
          <p:cNvSpPr/>
          <p:nvPr/>
        </p:nvSpPr>
        <p:spPr>
          <a:xfrm>
            <a:off x="5500800" y="571500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38"/>
          <p:cNvSpPr/>
          <p:nvPr/>
        </p:nvSpPr>
        <p:spPr>
          <a:xfrm>
            <a:off x="371484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9"/>
          <p:cNvSpPr/>
          <p:nvPr/>
        </p:nvSpPr>
        <p:spPr>
          <a:xfrm>
            <a:off x="4572000" y="7858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0"/>
          <p:cNvSpPr/>
          <p:nvPr/>
        </p:nvSpPr>
        <p:spPr>
          <a:xfrm>
            <a:off x="628668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25"/>
          <p:cNvSpPr/>
          <p:nvPr/>
        </p:nvSpPr>
        <p:spPr>
          <a:xfrm flipV="1" rot="10800000">
            <a:off x="6929280" y="214200"/>
            <a:ext cx="2214720" cy="314352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520"/>
              <a:gd name="textAreaBottom" fmla="*/ 3035520 h 3143520"/>
            </a:gdLst>
            <a:ahLst/>
            <a:rect l="textAreaLeft" t="textAreaTop" r="textAreaRight" b="textAreaBottom"/>
            <a:pathLst>
              <a:path w="21600" h="30657">
                <a:moveTo>
                  <a:pt x="3600" y="0"/>
                </a:moveTo>
                <a:arcTo wR="3600" hR="3600" stAng="16200000" swAng="-5400000"/>
                <a:lnTo>
                  <a:pt x="0" y="27057"/>
                </a:lnTo>
                <a:arcTo wR="3600" hR="3600" stAng="10800000" swAng="-5400000"/>
                <a:lnTo>
                  <a:pt x="18000" y="30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5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дин из способов защиты изделия от коррозии.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26"/>
          <p:cNvSpPr/>
          <p:nvPr/>
        </p:nvSpPr>
        <p:spPr>
          <a:xfrm flipV="1" rot="10800000">
            <a:off x="6929280" y="284760"/>
            <a:ext cx="2214720" cy="31431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160"/>
              <a:gd name="textAreaBottom" fmla="*/ 3035160 h 314316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9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6 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ещество, способное замедлять протекание химических процессов или останавли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0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Активный металл, который присоединяют к конструкции для предохранения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3_2"/>
          <p:cNvPicPr/>
          <p:nvPr/>
        </p:nvPicPr>
        <p:blipFill>
          <a:blip r:embed="rId1"/>
          <a:stretch/>
        </p:blipFill>
        <p:spPr>
          <a:xfrm>
            <a:off x="3643200" y="428760"/>
            <a:ext cx="479268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17"/>
          <p:cNvPicPr/>
          <p:nvPr/>
        </p:nvPicPr>
        <p:blipFill>
          <a:blip r:embed="rId2"/>
          <a:stretch/>
        </p:blipFill>
        <p:spPr>
          <a:xfrm>
            <a:off x="3571920" y="3000240"/>
            <a:ext cx="2571840" cy="350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kor08-2"/>
          <p:cNvPicPr/>
          <p:nvPr/>
        </p:nvPicPr>
        <p:blipFill>
          <a:blip r:embed="rId3"/>
          <a:stretch/>
        </p:blipFill>
        <p:spPr>
          <a:xfrm>
            <a:off x="6286680" y="2928960"/>
            <a:ext cx="2571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86160" cy="5103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ность корро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металла в ионное состоя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                           +n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-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новники корроз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, оксиды серы, углерода, азота, кислород воздуха, электролиты, микроорганизмы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785880" y="3785760"/>
            <a:ext cx="2160" cy="35784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Прямая соединительная линия 13"/>
          <p:cNvSpPr/>
          <p:nvPr/>
        </p:nvSpPr>
        <p:spPr>
          <a:xfrm>
            <a:off x="2000160" y="3357720"/>
            <a:ext cx="285840" cy="0"/>
          </a:xfrm>
          <a:prstGeom prst="line">
            <a:avLst/>
          </a:prstGeom>
          <a:ln w="115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Documents and Settings\Александр\Рабочий стол\microbe.gif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Documents and Settings\Александр\Рабочий стол\i.jpeg"/>
          <p:cNvPicPr/>
          <p:nvPr/>
        </p:nvPicPr>
        <p:blipFill>
          <a:blip r:embed="rId2"/>
          <a:stretch/>
        </p:blipFill>
        <p:spPr>
          <a:xfrm>
            <a:off x="6357960" y="342900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:\Documents and Settings\Александр\Рабочий стол\кислород.jpeg"/>
          <p:cNvPicPr/>
          <p:nvPr/>
        </p:nvPicPr>
        <p:blipFill>
          <a:blip r:embed="rId3"/>
          <a:stretch/>
        </p:blipFill>
        <p:spPr>
          <a:xfrm>
            <a:off x="0" y="0"/>
            <a:ext cx="1087560" cy="86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Documents and Settings\Александр\Рабочий стол\вода.jpg"/>
          <p:cNvPicPr/>
          <p:nvPr/>
        </p:nvPicPr>
        <p:blipFill>
          <a:blip r:embed="rId4"/>
          <a:stretch/>
        </p:blipFill>
        <p:spPr>
          <a:xfrm>
            <a:off x="7572240" y="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Documents and Settings\Александр\Рабочий стол\ж2.JPG"/>
          <p:cNvPicPr/>
          <p:nvPr/>
        </p:nvPicPr>
        <p:blipFill>
          <a:blip r:embed="rId5"/>
          <a:stretch/>
        </p:blipFill>
        <p:spPr>
          <a:xfrm>
            <a:off x="0" y="4438800"/>
            <a:ext cx="2676600" cy="24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Documents and Settings\Александр\Рабочий стол\ж1.JPG"/>
          <p:cNvPicPr/>
          <p:nvPr/>
        </p:nvPicPr>
        <p:blipFill>
          <a:blip r:embed="rId6"/>
          <a:stretch/>
        </p:blipFill>
        <p:spPr>
          <a:xfrm>
            <a:off x="2643120" y="4429080"/>
            <a:ext cx="2790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92888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                                               Электрохи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дит в не проводящей                     Происходит в токопроводя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ток среде. Такой вид           среде (в электролите) 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ррозии проявляется в случае                  возникновением внутри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металлов с сухими           электрического тока. Усло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азами или жидкостями –                             для  электрохимиче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электролитами.                                         коррозии: 1) контакт двух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нзином, керосином и др.)                        металлов; 2) наличие  электролита.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Прямая со стрелкой 4"/>
          <p:cNvCxnSpPr/>
          <p:nvPr/>
        </p:nvCxnSpPr>
        <p:spPr>
          <a:xfrm flipH="1">
            <a:off x="1713960" y="1143000"/>
            <a:ext cx="2215080" cy="57240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Прямая со стрелкой 6"/>
          <p:cNvCxnSpPr/>
          <p:nvPr/>
        </p:nvCxnSpPr>
        <p:spPr>
          <a:xfrm>
            <a:off x="5071680" y="1142640"/>
            <a:ext cx="1857960" cy="50076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0" name="Скругленный прямоугольник 7"/>
          <p:cNvSpPr/>
          <p:nvPr/>
        </p:nvSpPr>
        <p:spPr>
          <a:xfrm>
            <a:off x="4500720" y="1857240"/>
            <a:ext cx="4500360" cy="350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лектро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285840" y="1785960"/>
            <a:ext cx="4071960" cy="350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имическа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Александр\Pictures\655119.jpg"/>
          <p:cNvPicPr/>
          <p:nvPr/>
        </p:nvPicPr>
        <p:blipFill>
          <a:blip r:embed="rId1"/>
          <a:stretch/>
        </p:blipFill>
        <p:spPr>
          <a:xfrm>
            <a:off x="5000760" y="4572000"/>
            <a:ext cx="361620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андр\Pictures\gel1_1.jpg"/>
          <p:cNvPicPr/>
          <p:nvPr/>
        </p:nvPicPr>
        <p:blipFill>
          <a:blip r:embed="rId2"/>
          <a:stretch/>
        </p:blipFill>
        <p:spPr>
          <a:xfrm>
            <a:off x="357120" y="4429080"/>
            <a:ext cx="29242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андр\Pictures\titanik2.jpg"/>
          <p:cNvPicPr/>
          <p:nvPr/>
        </p:nvPicPr>
        <p:blipFill>
          <a:blip r:embed="rId3"/>
          <a:stretch/>
        </p:blipFill>
        <p:spPr>
          <a:xfrm>
            <a:off x="6500880" y="1812960"/>
            <a:ext cx="2428920" cy="14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андр\Pictures\photo-9357.jpg"/>
          <p:cNvPicPr/>
          <p:nvPr/>
        </p:nvPicPr>
        <p:blipFill>
          <a:blip r:embed="rId4"/>
          <a:stretch/>
        </p:blipFill>
        <p:spPr>
          <a:xfrm>
            <a:off x="285840" y="1857240"/>
            <a:ext cx="2317680" cy="15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Александр\Pictures\disk-02ca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225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вид коррозии наблюдается в процессе обработки металлов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кают  окислительно-восстановительные химические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металлов окисляется кислородом воздуха, образуя на поверхности оксидные плёнки. Если плёнки прочные, плотные и хорошо связаны с металлом, то они защищают металл от дальнейшего разрушения (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Zn, Al, Cr, Ni, Sn, P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). Если плёнка рыхлая ( как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она не защищает металл от дальнейше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Александр\Рабочий стол\1.JPG"/>
          <p:cNvPicPr/>
          <p:nvPr/>
        </p:nvPicPr>
        <p:blipFill>
          <a:blip r:embed="rId1"/>
          <a:stretch/>
        </p:blipFill>
        <p:spPr>
          <a:xfrm>
            <a:off x="642960" y="4286160"/>
            <a:ext cx="8001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76280"/>
            <a:ext cx="756144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химической корроз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 +  O2 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3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 + 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e(O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+   Cl2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Cl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едленно)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SO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.    черный               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ая корроз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роисходит при соприкосновении двух металлов или на поверхности металла, содержащего вклю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е активный металл (анод) разру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коррозии тем больше, чем сильнее отличаются металлы по своей активности (чем дальше друг от друга они расположены в ряду напряже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Александр\Рабочий стол\2.JPG"/>
          <p:cNvPicPr/>
          <p:nvPr/>
        </p:nvPicPr>
        <p:blipFill>
          <a:blip r:embed="rId1"/>
          <a:stretch/>
        </p:blipFill>
        <p:spPr>
          <a:xfrm>
            <a:off x="1071720" y="3357720"/>
            <a:ext cx="7358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5:35Z</dcterms:created>
  <dc:creator>Александр</dc:creator>
  <dc:description/>
  <dc:language>en-US</dc:language>
  <cp:lastModifiedBy>Admin</cp:lastModifiedBy>
  <dcterms:modified xsi:type="dcterms:W3CDTF">2012-12-18T13:23:07Z</dcterms:modified>
  <cp:revision>199</cp:revision>
  <dc:subject/>
  <dc:title>Слайд 1</dc:title>
</cp:coreProperties>
</file>